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131802"/>
        <c:axId val="81640740"/>
      </c:barChart>
      <c:catAx>
        <c:axId val="131318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40740"/>
        <c:crosses val="autoZero"/>
        <c:auto val="1"/>
        <c:lblAlgn val="ctr"/>
        <c:lblOffset val="100"/>
        <c:noMultiLvlLbl val="0"/>
      </c:catAx>
      <c:valAx>
        <c:axId val="816407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318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F0A4-732A-454D-A5C1-BD27737EC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15EC-1F25-4232-A832-B54D66DE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E547-48C3-485A-B05F-C843B6114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28A4-0F5A-4857-810C-42A69109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620F-98B3-4C03-8A65-1D8B81F0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A75A-B7CA-4991-A71C-2BBB3731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8F88-2819-466E-B36B-1C2177CA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7A69-67A7-4A55-8345-21D1D455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A386-B8C3-4938-A975-890EC3A7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B2EE-D7AD-48C6-B290-0DA791E0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570E-3C51-41E2-AC44-82F139CA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C0AC-46BA-4644-B40E-04A08B04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AF051-0D7F-45B0-9246-DEEEA166C8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