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617152"/>
        <c:axId val="15545225"/>
      </c:barChart>
      <c:catAx>
        <c:axId val="816171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545225"/>
        <c:crosses val="autoZero"/>
        <c:auto val="1"/>
        <c:lblAlgn val="ctr"/>
        <c:lblOffset val="100"/>
        <c:noMultiLvlLbl val="0"/>
      </c:catAx>
      <c:valAx>
        <c:axId val="155452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6171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712E-01A0-4DF5-93A9-6BF371B90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CE53-4741-4F5D-99FC-3B5933BFC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F0C5-7E04-430F-B72B-FDED907EE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951D-5532-4256-94AA-D7EFE92A5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56A9-A183-4EC4-BADF-77EFFF4A8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DA75-AD92-4DA2-8281-D26950933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4646-FC6E-436F-93CD-62D11BDA9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05E2-D383-4B70-BCF7-C95711034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DC48-C150-4DA4-9D0C-F7F8374AE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787E-9C06-4F6E-9D8F-2A7576C67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7F83-6797-414E-8205-4D82C12B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9B33-1E97-4CEF-9662-B61325E18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A4D5B2-5BC2-4097-944B-0A0C81D5D50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