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3493"/>
        <c:axId val="97337210"/>
      </c:barChart>
      <c:catAx>
        <c:axId val="39563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37210"/>
        <c:crosses val="autoZero"/>
        <c:auto val="1"/>
        <c:lblAlgn val="ctr"/>
        <c:lblOffset val="100"/>
        <c:noMultiLvlLbl val="0"/>
      </c:catAx>
      <c:valAx>
        <c:axId val="97337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3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3A-8830-400C-B35E-F75FE12E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44B-9660-4AF1-A3D2-B44CC57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FB0-A883-4B58-89C9-69B9A4E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800-9DC1-433B-9CC0-9CB2ED93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A93-44E6-4E49-8856-F0460E47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56F-7435-47E0-BC1C-3575422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ECF-5DD8-4ACD-B9DF-DD8C1660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D2C-7A3A-4162-B761-580D62CE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51A-1372-4163-869A-CC055CD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C93-699D-4726-B75F-25C7C8C3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329-076C-438A-B41C-155553D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C5D-C4B6-4580-95E5-FDA4B14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8BBE7-478C-456D-8A43-AF38F2A0E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