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070296"/>
        <c:axId val="25863257"/>
      </c:barChart>
      <c:catAx>
        <c:axId val="207029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863257"/>
        <c:crosses val="autoZero"/>
        <c:auto val="1"/>
        <c:lblAlgn val="ctr"/>
        <c:lblOffset val="100"/>
        <c:noMultiLvlLbl val="0"/>
      </c:catAx>
      <c:valAx>
        <c:axId val="2586325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7029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EC16A-ABE3-459A-B7C0-01417CCDB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62E1F-6F35-4083-BC73-5C3A863FC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DB44D-4A8E-4FDC-9597-C8AAD6AF5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F0A24-F367-403D-8A67-BB09E39E9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20A4C-C60C-4EE2-948E-0130A5C77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81165-0AA2-414E-BE0E-F0987F761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2C884-EFE4-49E2-AFFF-04DE4DE3B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71B66-99C3-4C09-A78B-8134E2F83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2B0F0-978A-4660-BDD3-6D80280C6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96BC0-D977-4DC4-B3AF-FF725BAE9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84DFE-8B70-4C7D-A6CE-4C0571CA8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2E810-A8AC-40D5-8BF6-E2BE4116F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4D4BCF-FE58-4AF1-B47A-88D60518915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