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04181"/>
        <c:axId val="22925738"/>
      </c:barChart>
      <c:catAx>
        <c:axId val="530041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25738"/>
        <c:crosses val="autoZero"/>
        <c:auto val="1"/>
        <c:lblAlgn val="ctr"/>
        <c:lblOffset val="100"/>
        <c:noMultiLvlLbl val="0"/>
      </c:catAx>
      <c:valAx>
        <c:axId val="22925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041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8E80-9FE4-4202-B428-CFD0AC6C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E69-EA05-4621-8507-EF7680F2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3C5-52B0-430F-A085-571694E1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3B2-5051-4FC8-989F-72BAE4DC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C5C-E684-43C2-903E-B68BE516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EB8-53E9-4085-97DB-ED981579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61F-B0AE-401A-AEBD-A288463E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731-2949-481A-B00C-12DCADA0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AA7-53A4-4ECC-B2C6-7B2697C7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4F4-30F3-4441-A1E1-868407A4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FB1-4A52-44A9-ADF1-73862E9A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210-A328-4601-AE9C-84BE3E89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9ED2D-A45A-44E5-936F-0A3E5D0F56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