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33585"/>
        <c:axId val="37287851"/>
      </c:barChart>
      <c:catAx>
        <c:axId val="11033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7851"/>
        <c:crosses val="autoZero"/>
        <c:auto val="1"/>
        <c:lblAlgn val="ctr"/>
        <c:lblOffset val="100"/>
        <c:noMultiLvlLbl val="0"/>
      </c:catAx>
      <c:valAx>
        <c:axId val="37287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33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EF1-3370-47AB-8F84-94E5DCEA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A72-95AB-4551-B27E-6EF44F9D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E84-0CCD-40ED-877B-A43A0BFE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C2F-45EF-4D45-97D0-662FC00C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396-AF30-4D6A-BBCD-56F4A2B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8C8-ADE5-43EB-A922-580947BC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B5E-C06A-4E0A-B69F-1A860607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876-29BC-4903-B1E4-C1CE77CF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73D-2224-41BD-AD53-0FC0A764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8CB-35D4-4E54-BC98-1775B409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DD8-A52E-45E7-9D7A-C132AF62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8AF-5342-4926-B875-349466F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D1298-7A1B-479B-9AFC-184AE258F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