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97792"/>
        <c:axId val="39698584"/>
      </c:barChart>
      <c:catAx>
        <c:axId val="64297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98584"/>
        <c:crosses val="autoZero"/>
        <c:auto val="1"/>
        <c:lblAlgn val="ctr"/>
        <c:lblOffset val="100"/>
        <c:noMultiLvlLbl val="0"/>
      </c:catAx>
      <c:valAx>
        <c:axId val="39698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97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92D-3E06-4794-B80E-FB5CBE53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488-31E9-44B0-B99A-0B5A506E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8EA-A1C5-4EB7-B58C-ABF3229B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881-BF8F-4AC9-85F9-BEA18360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F3E-132F-4BEF-ACF8-8294D250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367-1995-48EB-99C6-44A87C3B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F36-F46F-4B2C-9C16-9B739C20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2D3-4FCC-4743-9B57-B4BFFB6D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E55-0205-4971-A4F1-D9B178FB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7D3-18F5-43FA-A078-06D7739B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1BC-115A-4370-864C-F2F7518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865-07EA-4B08-97E6-2436BEA9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448F7-520A-4685-B7B8-2FD67A9CFC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