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42503"/>
        <c:axId val="7785926"/>
      </c:barChart>
      <c:catAx>
        <c:axId val="554425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5926"/>
        <c:crosses val="autoZero"/>
        <c:auto val="1"/>
        <c:lblAlgn val="ctr"/>
        <c:lblOffset val="100"/>
        <c:noMultiLvlLbl val="0"/>
      </c:catAx>
      <c:valAx>
        <c:axId val="7785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425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F533-37A5-4708-A06E-B9120E23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7E0-2A4F-4424-837E-ECFDFC2C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25DA-713B-4DF8-8FEB-8BBE9DDF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D2B2-A14C-4C1D-8EDE-119301C2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11CA-7E59-4528-940D-2DDCA4D8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6B3-6BC1-4A81-8A0A-E3947328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916-AA67-473A-886A-8D65DB63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0883-A3C0-4133-8F21-DFCBB602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73B7-050C-42A2-846D-51A66897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FB67-E478-415F-A87D-E8E546A1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4E02-35F6-4867-BF42-F06DA9AD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5C8-62A3-46AB-B5CE-BAB84E39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51D01-BE71-4A3B-AEE9-62EA296C5E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