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8501066"/>
        <c:axId val="5225275"/>
      </c:barChart>
      <c:catAx>
        <c:axId val="8850106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25275"/>
        <c:crosses val="autoZero"/>
        <c:auto val="1"/>
        <c:lblAlgn val="ctr"/>
        <c:lblOffset val="100"/>
        <c:noMultiLvlLbl val="0"/>
      </c:catAx>
      <c:valAx>
        <c:axId val="522527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50106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1C11-BDC2-4065-B9C8-8F6BACF4E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6441-E068-456A-B8B0-B50605474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DE06-9F0B-40F6-A329-D6017D47D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8EAB-D83C-4325-B757-7E3434705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0EA1-FA19-41A9-8BBA-D479354F8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94F5-DC6B-4650-B8EC-45EEE27F3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52CF-68DC-47AD-91B8-66B6A62D0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61AB-49FE-4332-A489-D03B1E6C5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44CD-2542-4E46-9CC8-A536C136F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D85C-8843-44BF-A652-0797C3FAC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8151-6A19-4F6B-B6A0-352C4300F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55F5-0CE3-4DA3-BDEA-1A7C86057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4945D9-A297-4AD9-92CB-215FF124E3E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