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79444"/>
        <c:axId val="90264674"/>
      </c:barChart>
      <c:catAx>
        <c:axId val="36379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4674"/>
        <c:crosses val="autoZero"/>
        <c:auto val="1"/>
        <c:lblAlgn val="ctr"/>
        <c:lblOffset val="100"/>
        <c:noMultiLvlLbl val="0"/>
      </c:catAx>
      <c:valAx>
        <c:axId val="90264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9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60B-AE91-45FD-BAB6-8FFBDA3A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F89-33CC-49A4-8624-DCB31BA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BE4-09C9-4015-A742-71A35864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A60-989D-4911-BF86-E97C9CBA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B94-AB01-462D-87B9-C5BCFCA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AFF-5862-47FC-ACC7-68E1747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9B8-D665-460B-9072-17451E4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A8A-68ED-4D01-A943-0F1B91B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781-2FC5-4459-9E45-14C29BD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955-DE7B-4A4F-8EAF-4BF871F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64C-0982-47D6-9D87-36C1F3CC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B7A-6308-4317-92AC-C71B4CE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46D3-6219-4BB0-B2B0-4F0A75B6CA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