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14394"/>
        <c:axId val="59895598"/>
      </c:barChart>
      <c:catAx>
        <c:axId val="7091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95598"/>
        <c:crosses val="autoZero"/>
        <c:auto val="1"/>
        <c:lblAlgn val="ctr"/>
        <c:lblOffset val="100"/>
        <c:noMultiLvlLbl val="0"/>
      </c:catAx>
      <c:valAx>
        <c:axId val="59895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1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344-F171-4A76-ADD6-3BEB651F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2E8-80C3-4EF9-B484-8296742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CC7-5CBF-40EE-A96D-B76BC397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D5F-ABDD-45CB-A57F-24E398B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179-8CE7-41B1-9434-6696F440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74D-0296-4EE1-B589-128A89C6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B7A-8A4A-4E99-A523-8EA4A1A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249-2CCB-4DA0-8792-85CECF95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7CC-AB8D-4EB4-B9A2-48B8BB0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615-485F-4D0F-BED4-8C22581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A18-6DFD-419C-96DD-B7E4D57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79F-4D2E-487E-9F74-8BBF4F5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FDF0-1CEA-4822-87AE-E73762AEBA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