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89265"/>
        <c:axId val="93027647"/>
      </c:barChart>
      <c:catAx>
        <c:axId val="47989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27647"/>
        <c:crosses val="autoZero"/>
        <c:auto val="1"/>
        <c:lblAlgn val="ctr"/>
        <c:lblOffset val="100"/>
        <c:noMultiLvlLbl val="0"/>
      </c:catAx>
      <c:valAx>
        <c:axId val="93027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89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EAF-F42C-4A88-AC49-77A4B99A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EC3-0FB1-469A-B850-E054E174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CAD-76EA-4E15-9A8A-FA97DD6A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489-9C88-4C16-9A56-FE5BE823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075-DE2B-4DD5-A195-2D64F6A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CC9-C286-4B5D-99D5-B32E11AF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C44-7B4E-402B-A33C-1EF822A1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474-58F5-4085-8862-91DD622E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147-8505-4419-BF06-081D8AAB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20F-54B7-4D59-852B-554DCE4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455-4F69-495B-A2F5-178C1A3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7D6-5B6B-4899-AE9A-9DCC6943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A3E66-0D7B-46CA-B909-2846CB95E8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