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526050"/>
        <c:axId val="66303994"/>
      </c:barChart>
      <c:catAx>
        <c:axId val="625260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303994"/>
        <c:crosses val="autoZero"/>
        <c:auto val="1"/>
        <c:lblAlgn val="ctr"/>
        <c:lblOffset val="100"/>
        <c:noMultiLvlLbl val="0"/>
      </c:catAx>
      <c:valAx>
        <c:axId val="663039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5260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2280-6F48-4DC2-81EE-3A4AD3390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1101-C68D-404A-8C78-F693E165B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05BF-BB4B-4D28-B635-50B5A8D76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2030-7711-49FD-94A9-DAAA3D538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28E6-4BD7-43DA-B43A-37D78CFE7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1AF2-849A-40B8-BEE8-E753E516C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D6F4-0800-4A48-8715-77FA568B9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3ED6-0260-4432-87B2-015B94356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76F1-3FDE-4C1E-BF8D-C4F6CBD70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009C-6A9A-4899-BC76-5A5B924F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91E6-4DF6-46D6-83A7-3B8BBBD7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32C8-2A9B-4A98-A2D5-D7CD6A97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8FFBBA-B3C5-4E63-A05F-DA8B521BC2E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