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3ADC-DD4D-4410-B679-86AB7A111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F6FA-A657-4D6D-AEA6-0AE21B49F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F1B5-B9C9-46E2-9C7A-CF058EFD9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B920-7C54-49E8-AAC6-2DD7B9B32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0E944-E6C4-466D-B25E-5F6826C86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47357-B467-43F2-8955-4B208C850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ED9FF-13AA-431C-97BA-BB318C923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F9B46-3B9B-47DF-B050-DD8C8DA23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3B371-ED45-45CA-8965-A8D5AD1F3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9206B-D20D-4057-844D-684CEAB9D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6B481-BD4E-4D7E-B892-FE3B28D63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37AD-4C98-4D76-96FE-02E53CE39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69188-938C-4E97-8D1D-F9BAB1399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EFCA0-A598-4516-9E32-4617A9F5F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F6458-E784-4335-B567-FACB792FE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DAB81-CCDD-4EF6-87D6-F53F51C5F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9E94D-80C7-4CB4-9F40-350D618CC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836E-9764-41A0-B125-37F1FA3B1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7324-CD68-423D-A743-8B55D9812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2D1B-5637-41FD-B34A-27760DC6D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CF20-8FBA-43EB-B140-077B2C270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AEAA-74CB-4EDC-AB85-D23CDDCE3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2BEB-AB58-4DD4-AA5B-F7D3D20D5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5AA0-2896-484F-9504-4F1DEC701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224CD-AA5F-4746-9A5B-B948E0C19B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5729F-A132-4AFE-8777-71E4A59EC5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9301A-7BED-48FB-808D-1760C81940E2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86AA-CBA3-4C9E-8538-86BCBCBF31A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7C1E-2205-4E1D-8B4F-FE95EB8AD4E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B403-4CF1-48A1-A266-737796512DF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8348-81A8-4B50-BD55-47006B37551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FD94-ACCD-4D54-BDAD-700D7175FE9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5391-EFF8-466F-81B6-D3943E46671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D69A-F7D3-4384-8C0B-3E5AEED31D7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F24E-EB09-4468-9072-F048FE8CD6E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2EEF-486C-426D-BC28-A389E7315F7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5047-516F-45FC-A095-79B0AC02A5C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41DF-4F3B-44F5-8F88-E942BB40FFB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5:52:21Z</dcterms:modified>
  <cp:revision>2</cp:revision>
  <dc:subject/>
  <dc:title>The R genetics package: tools for using genetic data in statistical  models</dc:title>
</cp:coreProperties>
</file>